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21018"/>
        <c:axId val="62476642"/>
      </c:barChart>
      <c:catAx>
        <c:axId val="95721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6642"/>
        <c:crosses val="autoZero"/>
        <c:auto val="1"/>
        <c:lblAlgn val="ctr"/>
        <c:lblOffset val="100"/>
        <c:noMultiLvlLbl val="0"/>
      </c:catAx>
      <c:valAx>
        <c:axId val="62476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21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C6A-8382-48D8-83F9-930D4EA6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A62-14B8-44B8-BBC2-CB62970F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244-9476-43DB-A57B-681F8218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7F5-1487-4815-B591-20661F19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BC7-0B73-49D8-9476-86EBE72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DAE-0E89-4F77-AEB0-3596A90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7D7-2348-467F-A0D3-BA86BAD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B0F-6EB9-4C3B-B68A-BCB50E4C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FE8-72AF-4BA5-A5B5-82D4D3B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6AC-328A-4407-8BA4-0D4BBD21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EEA-5E6F-4714-9901-266F202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A6E-2205-49A9-8AB5-F73240E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75FA9-774C-4C6B-A435-0D057B1B99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