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365639"/>
        <c:axId val="15416658"/>
      </c:barChart>
      <c:catAx>
        <c:axId val="343656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16658"/>
        <c:crosses val="autoZero"/>
        <c:auto val="1"/>
        <c:lblAlgn val="ctr"/>
        <c:lblOffset val="100"/>
        <c:noMultiLvlLbl val="0"/>
      </c:catAx>
      <c:valAx>
        <c:axId val="154166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3656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335A-4EE7-45B0-8A1D-A6DC8378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83F-E620-438D-9B8E-B5C1798C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B01E-377E-459A-9591-64AEFBCF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494A-D49B-4866-BCB9-1852A64B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2F1-0ADF-4729-B285-2254152D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6300-5E7A-4218-84C2-77D5C40B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DF5B-0DA8-49F4-947D-B585BD74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E45D-AC1E-418F-9850-A1EBD7E3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BB08-8D8A-4900-B019-D97081F7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563-188B-494F-A3AD-2B45FFF1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7730-84F0-48FC-8843-021EB225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0E27-CC3A-4BB0-A7BB-B56827E4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E62E90-091E-4E06-B75A-9481E134CE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