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54355"/>
        <c:axId val="62122266"/>
      </c:barChart>
      <c:catAx>
        <c:axId val="38054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22266"/>
        <c:crosses val="autoZero"/>
        <c:auto val="1"/>
        <c:lblAlgn val="ctr"/>
        <c:lblOffset val="100"/>
        <c:noMultiLvlLbl val="0"/>
      </c:catAx>
      <c:valAx>
        <c:axId val="62122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54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B12-C7B7-4B1E-AE04-13876139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FAB-93D2-4801-880E-D849493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0CB-28F0-4461-90DD-49BA6C27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64E-CE5F-4C7F-B227-FF1E18CE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FAA-58AE-42FB-B9C0-E67AFAE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824-4708-4D5A-AB9E-C6C82839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C42-6CBD-49E4-A06A-F698BC9A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72A-5325-4C0F-BCD5-EE2E3671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12B-1218-40A6-A256-9A66BAD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CBB-3ABA-49B8-B1AB-E51F76B0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5D8-552B-4513-84C3-4329BF3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432-C2F0-4CAC-8476-36197F6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23367-2691-42B9-8553-3E331438A8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