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7625"/>
        <c:axId val="52291743"/>
      </c:barChart>
      <c:catAx>
        <c:axId val="8527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91743"/>
        <c:crosses val="autoZero"/>
        <c:auto val="1"/>
        <c:lblAlgn val="ctr"/>
        <c:lblOffset val="100"/>
        <c:noMultiLvlLbl val="0"/>
      </c:catAx>
      <c:valAx>
        <c:axId val="52291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7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08E-6D63-4C38-98C1-458289FE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A0D-3B3E-4235-8EC1-29873C39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8CE-80D1-4B8E-B41C-8EB93F7C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93F-39D3-4BB4-8A38-9ED09B21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C08-014E-4491-9FB3-4D22E47E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0FF-8F9B-42F9-9D0B-4A9B2D79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93B-1F0F-4EE4-892C-D46CD254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F451-861E-4CC1-8D68-C7EF9FFA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59D-9869-4547-B70E-0B9D5E96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E34-0C78-406B-A8A0-573957BE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C11-CAE6-4D41-BB78-9D58174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054-3647-4980-B923-135CFF8A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19E8D-BE63-465E-9060-80EA6EC122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