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165936"/>
        <c:axId val="25089066"/>
      </c:barChart>
      <c:catAx>
        <c:axId val="181659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089066"/>
        <c:crosses val="autoZero"/>
        <c:auto val="1"/>
        <c:lblAlgn val="ctr"/>
        <c:lblOffset val="100"/>
        <c:noMultiLvlLbl val="0"/>
      </c:catAx>
      <c:valAx>
        <c:axId val="250890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1659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6848-CD9B-4D14-8729-FFFAFE565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174B-9F94-45CA-B226-6B47F69F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6888-1B0D-41B6-904B-661C0594D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A5D4-FA54-480D-8D8C-608DD1A62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B926-4524-468E-8441-9AA77728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62D7-6367-472A-8A63-8AAF977A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1F29-B9A8-4661-84FB-66316AEF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938A-CEB1-4508-A326-DB285BFE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C272-F0FE-467A-8E05-8854CC29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B596-9E8F-4E63-9664-AB46F35B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6C69-7C88-4B65-9B28-A7EEBACE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44FE-8427-4C7C-BD91-89EE2F16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D301F6-AAC6-480B-811E-4963AE31D2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