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68292"/>
        <c:axId val="13231442"/>
      </c:barChart>
      <c:catAx>
        <c:axId val="52968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1442"/>
        <c:crosses val="autoZero"/>
        <c:auto val="1"/>
        <c:lblAlgn val="ctr"/>
        <c:lblOffset val="100"/>
        <c:noMultiLvlLbl val="0"/>
      </c:catAx>
      <c:valAx>
        <c:axId val="13231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68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0F9-125B-4827-AC0F-A6D0FF53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C05-81D6-4660-92EB-B228A5EE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46C-66AF-4D2A-AEC0-6EBDDD92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A8C-02D0-4BE5-8CF0-1E5DC9BF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37D-BA9F-41E9-B72D-C5C4424B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DAD-7402-4021-942B-7B4A6FDA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C7A-D104-4704-BEDC-3E388E11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7C8-EE1C-4862-BF16-11E9B5AF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39F-AC6C-44B3-9082-D0933C02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FFF-5E8C-4C5A-A20A-2F8F976D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BAF-E2A6-4B65-A8B0-17609CC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3F5-E04C-47C3-96E3-A3B76A7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2C8DC-0D97-4771-8970-4F3474642A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