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58541"/>
        <c:axId val="60370763"/>
      </c:barChart>
      <c:catAx>
        <c:axId val="34158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70763"/>
        <c:crosses val="autoZero"/>
        <c:auto val="1"/>
        <c:lblAlgn val="ctr"/>
        <c:lblOffset val="100"/>
        <c:noMultiLvlLbl val="0"/>
      </c:catAx>
      <c:valAx>
        <c:axId val="60370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58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D0B-8E58-4F65-ACA7-D7ACDC87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149-3AED-4019-9F8E-09F2B880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5BC-9E9E-4F8D-94AE-2AAF08DA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BEC-31BA-4567-A2CD-AC18745F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AAE-94F9-4F71-A3AC-7B99AD17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005-8B9C-47E3-8703-DFE48B45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BE0-AD06-4CAD-B841-9198B1A1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40C-63B2-4AB2-BF77-8D6BDD9A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707-22DF-4237-BA56-57A99A48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E33-E845-4E78-B055-1ADBEE46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5C0-1215-4BF5-9C06-5B62722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66C-4890-43F4-B011-1B2A561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7F4DB-FA4C-4594-81CB-72059B7F04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