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701440"/>
        <c:axId val="413318"/>
      </c:barChart>
      <c:catAx>
        <c:axId val="857014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318"/>
        <c:crosses val="autoZero"/>
        <c:auto val="1"/>
        <c:lblAlgn val="ctr"/>
        <c:lblOffset val="100"/>
        <c:noMultiLvlLbl val="0"/>
      </c:catAx>
      <c:valAx>
        <c:axId val="4133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014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A931-A295-4FD8-8E63-ABC46D71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5AB5-B60B-4ADD-A4BE-B53B30A2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89AD-D722-4714-9EE7-1A085364C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1365-6609-4069-853A-F8DCD9531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9F81-F094-4DF3-AEF3-477DBA6E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D558-01FA-4895-A77C-740F94AD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CBBF-1524-409E-BB44-3053D396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7C60-D096-4E95-8E8D-C1C6B12D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8D68-F2AD-4221-9789-F7DC6E53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666B-2FA4-4376-9248-9E02EFB9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8136-1586-4AA1-A046-93FF3758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12E6-7655-460E-920A-4C05E589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CDC17-7FB1-4A8C-AB83-4DA527A4C8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