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26880"/>
        <c:axId val="87249304"/>
      </c:barChart>
      <c:catAx>
        <c:axId val="69626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49304"/>
        <c:crosses val="autoZero"/>
        <c:auto val="1"/>
        <c:lblAlgn val="ctr"/>
        <c:lblOffset val="100"/>
        <c:noMultiLvlLbl val="0"/>
      </c:catAx>
      <c:valAx>
        <c:axId val="87249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26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E01-5D0C-4B42-A2A8-D4B70FBC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048-5277-4C53-BDF0-AB10B5A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C88-49B9-4D1A-98D8-BE9A572A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5DF-FCFD-40CC-8253-4966F8AB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9A7-5B68-455A-810F-B7ABB1E8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8A7-E87A-4BE9-95ED-F23FAC43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A07-9BA6-42B4-BFEB-BADF3DD0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0C8-A5B0-45E2-888E-7E77352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B24-D65F-45D3-8C41-9DA1B042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B60-DE47-49A1-94B4-0393D0F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B9F-EFE9-4A0C-925F-252DB4A7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A65-5042-43D3-B94E-D50A1A3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8CBF7-70A0-428A-AE91-EB449D07A6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