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69588"/>
        <c:axId val="78216926"/>
      </c:barChart>
      <c:catAx>
        <c:axId val="16769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16926"/>
        <c:crosses val="autoZero"/>
        <c:auto val="1"/>
        <c:lblAlgn val="ctr"/>
        <c:lblOffset val="100"/>
        <c:noMultiLvlLbl val="0"/>
      </c:catAx>
      <c:valAx>
        <c:axId val="78216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69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7A4-F556-4060-AF64-12609A7D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F92-5546-40BD-B8EA-90954565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E40-1A7E-4BCF-8D75-9BD5E4EA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980-5EC0-40C6-8F8C-D82FCFA6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CCF-88DF-444A-9D34-1CA464C9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3F5-0529-4E48-B5A0-1E57337E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7BC-34BD-475F-9BAC-3475F84F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6FB-3E4E-465C-8AE0-CD0E8C5E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FD4-F555-4489-8FCB-CC9464F2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629-3B8B-4054-8717-F657C75E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F31-15FC-406A-A252-789C3634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BC5-C1DB-4BC5-929C-F6BA00A5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47968-C964-462F-89BF-01C15CA662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