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31053"/>
        <c:axId val="26249053"/>
      </c:barChart>
      <c:catAx>
        <c:axId val="95931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49053"/>
        <c:crosses val="autoZero"/>
        <c:auto val="1"/>
        <c:lblAlgn val="ctr"/>
        <c:lblOffset val="100"/>
        <c:noMultiLvlLbl val="0"/>
      </c:catAx>
      <c:valAx>
        <c:axId val="26249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1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053-2B14-48E3-B2C5-4054126B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005-1F5A-4E54-969C-3CCFD9B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C36-6B52-4567-9C26-E5AED270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99F-9222-4A6B-9177-1AFCE5BD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FCF-F167-4CA4-BAE9-F4E3797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21D-BC47-4C86-AFFE-84F905C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7AE-E363-4F6D-815B-C36A00A9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782-B1D2-448F-BA59-468AAA5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978-4BBB-4F27-B12F-62C3BB7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3E0-09F3-45AB-B811-C787BE1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D2A-C328-4805-8DFB-EC60376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A1D-304A-46BD-9B4B-6F7AAC5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CF573-390F-4B03-BAA0-A030EABA5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