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44357"/>
        <c:axId val="37255309"/>
      </c:barChart>
      <c:catAx>
        <c:axId val="50344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55309"/>
        <c:crosses val="autoZero"/>
        <c:auto val="1"/>
        <c:lblAlgn val="ctr"/>
        <c:lblOffset val="100"/>
        <c:noMultiLvlLbl val="0"/>
      </c:catAx>
      <c:valAx>
        <c:axId val="37255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44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24E-5CF3-4061-A3C6-647228E9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C60-5D62-4A23-BC10-717D20E4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D87-3682-4724-AD71-C6C4C269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FC9-D5CB-417F-B38B-2FD39F4B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063-9C93-4AEB-9E5B-E278107F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4C3-A54A-4414-BE10-54031E0C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83C-A593-4B24-BD7F-9591309A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2D3-FAD9-45D2-83C3-1B3DAA2F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693-02A2-41B2-A6CA-56514FE2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8DB-D691-4E0E-A5B0-718F6ADA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696-998E-4877-A8D1-852CC697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0EA-8C33-498A-98B1-2E21DCD1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AF40A-351A-4F3D-B5FF-B9235EE7DC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