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91323"/>
        <c:axId val="22147325"/>
      </c:barChart>
      <c:catAx>
        <c:axId val="83891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7325"/>
        <c:crosses val="autoZero"/>
        <c:auto val="1"/>
        <c:lblAlgn val="ctr"/>
        <c:lblOffset val="100"/>
        <c:noMultiLvlLbl val="0"/>
      </c:catAx>
      <c:valAx>
        <c:axId val="22147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91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41A-6AB1-40C4-9090-CA8579E6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DF7-6615-4BB8-A72B-B37CF8D5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E0B-CF61-44F0-81F3-24CA1394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7B0-9B42-4E9C-B8BE-2B9C9167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23B-DA29-4E86-91F3-EFEC98A9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858-FD45-4E91-AC53-CF4E1FC7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0F3-E4A9-42B4-99F5-80E1EF63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DC5-8776-4A35-8B19-DD3FCB0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4F1-7C58-4359-BD53-768402A4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719-28E0-4F63-ADE9-CEC1DE08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204-8806-4F16-888F-CC196FC4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4EB-B30F-4F6C-99E6-F589E70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A0A6-E61C-4362-AEE1-8B779DD1D8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