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7073"/>
        <c:axId val="77809923"/>
      </c:barChart>
      <c:catAx>
        <c:axId val="3907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09923"/>
        <c:crosses val="autoZero"/>
        <c:auto val="1"/>
        <c:lblAlgn val="ctr"/>
        <c:lblOffset val="100"/>
        <c:noMultiLvlLbl val="0"/>
      </c:catAx>
      <c:valAx>
        <c:axId val="77809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7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12D-2A07-40FA-BFAC-3DD48AE7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1C0-CFF9-45F2-8101-E9F53151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136-7B58-4A23-A146-06DB685E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2C6-C7DA-454A-9876-6A5FD5E9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DB8-AE2C-402B-985C-2AE4ED6C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0DC-D52C-4D50-8823-C346A62D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124-4BA0-4BBD-AF0A-ECBCADDF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F25-1A7E-4A77-8CD4-76AE65F3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528-2FC4-4D85-A5EF-F981BE11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670-51B5-49BD-992C-E3EA2650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8FD-C657-4448-BB8C-43084E5D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738-E394-4BBC-BFCE-30A56C3C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A38CE-D5DC-476C-972B-8A65EFA90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