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816417"/>
        <c:axId val="23758821"/>
      </c:barChart>
      <c:catAx>
        <c:axId val="358164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58821"/>
        <c:crosses val="autoZero"/>
        <c:auto val="1"/>
        <c:lblAlgn val="ctr"/>
        <c:lblOffset val="100"/>
        <c:noMultiLvlLbl val="0"/>
      </c:catAx>
      <c:valAx>
        <c:axId val="237588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8164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93A5-C52A-45BE-AF51-3A0E2A1A5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7CC9-6DAE-4489-91FF-F626196B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8A7-6728-4F0C-99A5-69F27434AD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8EA4-EDFC-4C62-9F18-F6E00880E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BB98-384F-42E2-B937-2D317C70C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88A0-A01B-4F91-B532-B0E7721F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46BD-0AD6-4559-ADE5-8572AB242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603-B5FA-47DE-A345-D92072CE4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782B-E7E9-4AB6-950E-E89B40CE6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9955-2EAB-453C-B67F-599A26DC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997D-A5D9-416C-BE12-9A496FE9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AC1-249B-4C6D-B11A-B6E5287DA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6924D-6DAC-4808-A6B2-E646404EFD6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