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03135"/>
        <c:axId val="95746568"/>
      </c:barChart>
      <c:catAx>
        <c:axId val="26803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6568"/>
        <c:crosses val="autoZero"/>
        <c:auto val="1"/>
        <c:lblAlgn val="ctr"/>
        <c:lblOffset val="100"/>
        <c:noMultiLvlLbl val="0"/>
      </c:catAx>
      <c:valAx>
        <c:axId val="95746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03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39E-9D12-43DB-8EE4-3CED5EB2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740-D442-43F1-8AC3-B59F259F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0CA-CF47-40B2-981D-369372FF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BF4-5CF3-4747-9C86-45DA1F21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B3D-5AAF-44ED-ADA6-6C71BCC7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A82-2B0A-44EE-906A-39D9E41D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D08-F35F-4813-AEB3-CD542E96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09C-0411-407B-BB7D-927CD24E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0AB-3C08-4954-97F0-FC759B61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3FF-EDBA-4607-A6C1-C978C12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6A0-BCD9-4992-8CA2-9B06F3F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6A1-959A-46B6-BA77-775D477C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6C8AF-485A-47F2-AE5B-6FC6539586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