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8012637"/>
        <c:axId val="34541"/>
      </c:barChart>
      <c:catAx>
        <c:axId val="1801263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541"/>
        <c:crosses val="autoZero"/>
        <c:auto val="1"/>
        <c:lblAlgn val="ctr"/>
        <c:lblOffset val="100"/>
        <c:noMultiLvlLbl val="0"/>
      </c:catAx>
      <c:valAx>
        <c:axId val="34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01263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1320-ACA0-4698-A86C-F2D29DE0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6199-5762-4964-BCEF-B0F8B0C5C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15BF-4DF3-4830-AA64-009A9EB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FFC3-6364-42A0-9424-E1980067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C2A8C-F573-42F7-84AA-572D94CDC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01FDF-49F6-419A-ABA7-AE3D77834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894A-4505-443D-A349-198898213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D630-82CA-45DE-A34F-043D635A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EFBB-1678-49BD-A3AC-B4D68D0DC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2A49-A215-4B9D-81EF-DF0096DD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94A7-70B5-451F-A15A-EF94CF6F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9F3F-C124-4640-A790-0EB99860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C0E26-7132-47E1-83E2-FA76914E1D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