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87893"/>
        <c:axId val="69246422"/>
      </c:barChart>
      <c:catAx>
        <c:axId val="14387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6422"/>
        <c:crosses val="autoZero"/>
        <c:auto val="1"/>
        <c:lblAlgn val="ctr"/>
        <c:lblOffset val="100"/>
        <c:noMultiLvlLbl val="0"/>
      </c:catAx>
      <c:valAx>
        <c:axId val="69246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87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BA1-F821-4913-BEFF-E2CD5FAE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857-B1E8-45BD-9822-6F80EBC6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10F-75BE-4260-B807-60B79003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F94-F515-4A0C-A01D-CF7A6F7B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009-1623-4BF2-999E-25FF6334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855-D642-4F71-B375-75E33C2D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A59-CC5B-48FD-AE49-5180129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5EB-C9D8-4DDF-9F39-0B785D1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3E7-35F3-4971-A125-46D37E4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B57-563F-4491-A5D4-DE3E410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224-BCAF-488D-B280-CEA1AC4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38B-0A86-4DD9-9C0A-CD57105E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DE835-230B-43DD-BA60-D582832B3E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