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753212"/>
        <c:axId val="14174871"/>
      </c:barChart>
      <c:catAx>
        <c:axId val="757532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74871"/>
        <c:crosses val="autoZero"/>
        <c:auto val="1"/>
        <c:lblAlgn val="ctr"/>
        <c:lblOffset val="100"/>
        <c:noMultiLvlLbl val="0"/>
      </c:catAx>
      <c:valAx>
        <c:axId val="141748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532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4E7A-8D68-446E-A29F-00912FE30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DEEE-F77F-4501-B1F5-5F3824DF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85E6-7C46-4CB2-A745-BC4FDC668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59BF-EF07-432F-9C65-E89C8FC8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069B-D886-425E-9E95-EF000E2E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EC0C-F940-4AD5-82C6-354780A8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3A63-D729-49E5-92A5-FFF96ABD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1AEE-DBD4-4227-A552-6DCE6531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5BB2-C8D2-4A6E-B87A-83A3897B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F611-80C2-45C4-91E4-AE820F1C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AAE8-047D-4E7A-8980-CE96D84E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DBF6-2F48-4E5F-8671-2A950197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5AE01-D06B-4A37-AD55-BA29B178F9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