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87050"/>
        <c:axId val="26851004"/>
      </c:barChart>
      <c:catAx>
        <c:axId val="16870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51004"/>
        <c:crosses val="autoZero"/>
        <c:auto val="1"/>
        <c:lblAlgn val="ctr"/>
        <c:lblOffset val="100"/>
        <c:noMultiLvlLbl val="0"/>
      </c:catAx>
      <c:valAx>
        <c:axId val="26851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70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5C4D-E1F7-41B1-A2A3-2D9B0629E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E40-E107-42B8-AA06-7AD326E0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3AE9-1E43-4E04-A900-DE8E403F4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4602-9280-4284-865C-3AD43A871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D8AF-5A1E-4AB5-96B9-0F0BD463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4A64-506A-4E19-A79C-1AA20E4B8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0D89-837B-4259-BBFF-F0C7D706C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1B41-D256-421F-A21B-7152AA08A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FCD6-7706-43CE-AF68-BAB01396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5D0-9FC7-4A62-A888-46A8E5D2E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A987-7A91-437E-AB98-D744F8B3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AED4-E4B6-4481-B718-DFA317838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7330AD-FDAB-4D29-8782-F462357C718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