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257055"/>
        <c:axId val="15036619"/>
      </c:barChart>
      <c:catAx>
        <c:axId val="3225705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036619"/>
        <c:crosses val="autoZero"/>
        <c:auto val="1"/>
        <c:lblAlgn val="ctr"/>
        <c:lblOffset val="100"/>
        <c:noMultiLvlLbl val="0"/>
      </c:catAx>
      <c:valAx>
        <c:axId val="150366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25705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1ACB-4BD2-489C-A84D-6597E3589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650F2-DA12-445B-A276-68AF1EA07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120-CEAE-4B59-891C-AE238B71B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D2AB-9538-4495-9C62-C01150E83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1E97-0202-4CC7-BE2F-043826CA9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27A5-2BBE-4D8C-8170-98FD04EC6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A142-1DF1-4E5B-A392-5681F7B2E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1E20-6F21-43CD-A83C-10C9BB0A7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9687-D0B3-45B1-9E7D-02A7C5E7C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60B4-4E04-4CBB-944C-22EAADC19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CE55-6DE6-45C1-8D6B-0DDE69CB2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AB8-C345-4539-997E-E7E003D2D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8C47D0-ED2E-4B92-93D7-16982875349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