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66708"/>
        <c:axId val="10684852"/>
      </c:barChart>
      <c:catAx>
        <c:axId val="19667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684852"/>
        <c:crosses val="autoZero"/>
        <c:auto val="1"/>
        <c:lblAlgn val="ctr"/>
        <c:lblOffset val="100"/>
        <c:noMultiLvlLbl val="0"/>
      </c:catAx>
      <c:valAx>
        <c:axId val="106848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667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5816-67DC-48F9-B238-326160AAE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3A56-C3C6-490F-BD97-0C296954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1065-0F7D-4D23-B547-4D32215FF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F5D2-1DC1-4815-81E8-3F467738C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1D96-AE72-4927-8594-F0DE74658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F1B3-E800-41E2-B39E-9D83DB78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7533-C7DA-434E-B1C2-F08236773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9CE8-D422-4758-9264-1FDE53FA7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D3DE-F68E-4984-819B-A9CDD88F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1817-ADAE-48A2-95A4-C732066E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ED60-03B4-4998-A67D-11B31AC1D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1655-174F-451A-84CC-FCAB47616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8F8ED-99E1-4884-8429-F28563128CA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