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614368"/>
        <c:axId val="412324"/>
      </c:barChart>
      <c:catAx>
        <c:axId val="696143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2324"/>
        <c:crosses val="autoZero"/>
        <c:auto val="1"/>
        <c:lblAlgn val="ctr"/>
        <c:lblOffset val="100"/>
        <c:noMultiLvlLbl val="0"/>
      </c:catAx>
      <c:valAx>
        <c:axId val="412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143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2072-E429-4D35-B875-CDE315E40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6461-A2A9-4251-B465-F49F033B2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D6E0-7F22-4628-B2D1-DA17FF31B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DE6-C19F-4012-882F-9A50622E9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DA90-F953-4A84-9415-83D06F07C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9F9D-7E61-480E-8961-3C2345ACF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83D1-C092-4DCB-B37C-B3650BF4D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99CDF-EB83-4079-9195-07873C6D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E6B-202F-4D5E-A9AB-7FE05DF0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210-65E2-468A-BE69-494E5D8F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4FD-0845-41C8-8F91-BB111625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D44F-BDC7-44D6-9213-10B8F500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F97746-7688-4595-830A-BD2A92935A1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