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42875"/>
        <c:axId val="70310803"/>
      </c:barChart>
      <c:catAx>
        <c:axId val="67842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10803"/>
        <c:crosses val="autoZero"/>
        <c:auto val="1"/>
        <c:lblAlgn val="ctr"/>
        <c:lblOffset val="100"/>
        <c:noMultiLvlLbl val="0"/>
      </c:catAx>
      <c:valAx>
        <c:axId val="70310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42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3D0-8750-4D1B-8717-769F8E63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6F7-812A-486F-B4F0-EBC44FB0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B7C-BC78-4AA4-A937-8972783A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1AB-25C3-4CBA-8492-788AE4D4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BF3-1D1F-43AA-A000-5DB62B71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0A2-D08A-4AE0-9BDE-F129196A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62F-1EE7-4F19-8D48-3ABEF59D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87D-72BF-41D7-A607-9E242689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3CB-282B-4109-9BE4-AEE14E4B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CFE-1109-49D7-A0BC-8FBE8E3B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B5E-EDEC-48EC-858B-AC82070C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DA1-2D35-44CB-89B5-73C97CD3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8AE65-BBD4-4A2D-9CEC-99496239FC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